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BEA9-F3E5-4A66-A925-9E8E94174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4206-EF59-4D1A-A9CE-CBF773C1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A224-03AD-4F82-8AA8-C237C310D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5120-5E3A-40A0-8E00-DAE7EF0A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A2BE-215D-4D4E-8D49-EA79DFE62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50C36-ACAB-4E62-AD44-415AA1CE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8672D-8FD9-4792-9640-0C0934455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E0F2-846C-42FA-A3DB-CC0A8C323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A4DC-7EF6-4178-A674-BFC942A8B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9BDA1-2723-4113-93EB-16B4F59B2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83C0A-667B-4E9A-B356-00AA5DBD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364B-282B-4BC0-A5B5-0A55AB15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257F5-EE07-4D49-A222-0D2E49B4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F6CD-C7A3-484F-8061-DAABE9404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4E87-EB80-4C39-9B88-0D154EC49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7DBD1-2DF3-4235-8532-CD5AFC354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2687-97CF-485E-9681-0FE9084A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6A612-60D8-4C14-9D5E-F8D7CFA1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5937A2-26AC-4E88-88F1-23AE0124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EE21A-DCD8-4442-8BCB-9F3FE6B1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3D38E-8609-48D7-BA66-196B8F79A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6A808-F0EA-497F-9681-B6202D91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71D2-B121-4067-B962-C1E62C897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B7B2A-3413-4D94-8DE0-30F79559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45E39-EC88-431C-A2D3-F19AC667B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C15C3-D2BC-4F60-9E4B-1BA1B566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D2111-A804-4B4E-82A5-368A7A8F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6B228-EA94-4C41-9CA4-89557868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3756E-1B71-467D-AFC9-B4E4B631E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07C20-6A1F-4B88-8978-5EABC749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66E8C-E434-4EE5-8811-B56D5FFAD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876C1F-1CCF-4A44-94F5-566084F8F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F8AF8-51A9-47F7-B74D-FDA8CECA1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5A7C-2743-49ED-901B-336E013B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2943F-DDB2-4FB5-83E3-B8E72D73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1999B-D876-463C-BC49-95CDA855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50C58-3406-49BE-8F0A-38E5E1CB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B3C833-CC74-48B0-ABFC-E900C1BB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D2929-C585-4C51-9F63-DDE34356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C117B-B666-4E87-85E8-79F2974D2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BBC2F-8BA7-4774-92AE-A23F8B98F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1B5756-795B-4D0B-A051-99A2F91ED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F04E-CC4F-4162-A901-E92DD4FE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D633E-2F6A-4FA4-B51C-1833CD47E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375A-EA5B-4EE3-8BF2-AA8726872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4FBE92-2C14-4686-99DE-96C6F562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15736-3688-4DF2-9F06-E77D35FE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692A8-BB66-4DD5-8D12-B4CACF08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D9081-6211-433C-9983-C415A0E1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77C2D7-7341-4966-A9E7-429D21DD5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A0B0B-5345-406D-B002-32E375B9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B0881-7275-4258-A62D-6B0CA96D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60A86-358E-46B4-B0E5-406FA0AB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36057-FD3E-42B5-B5B9-7BB6BD15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01981-2988-4BCF-A754-EDAA23A8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F97E-E907-46E4-9CFA-3CF892E91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BB5B1-0A99-4494-B449-17B1F9D3F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847780-1873-4BC4-A258-FA0E6CF87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8FC29D-84A4-479C-9EF8-D5C0EFB2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F07C30-FC21-42BD-8391-3C7954D54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5F330-0BC4-4A29-8606-7451402E2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AD8AB-ABDF-4DF6-9EAF-EA949680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DACA6-DB81-4975-9230-80120050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7BF316-F406-43C8-A3C6-10DB49733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29E076-0BBC-40DE-B31F-16989C6E1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A4F89B-FC6E-409F-B0ED-631493EA4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98B9-5458-4E1F-9979-ABA091D3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A2587-C589-483C-AD6C-07AF1C4F2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9BBC3-F47A-4414-ADD8-CABF84E33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B29608-0D48-4B4E-80CD-48E27D76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7F83-0D99-430B-A761-B3295212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86E3-65E3-48CF-96A4-2DC59C5CE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8640" y="0"/>
                <a:ext cx="2753640" cy="116964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55B94E10-D13A-4BEF-98C5-7EEDEFDFF7F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52" name="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AFC99191-A735-4502-BD84-15E82838CCD8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8760" y="1272960"/>
            <a:ext cx="7701840" cy="1350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95" name="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00A1750-2DAB-4C19-886A-97FED2014E1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40" name="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9680" y="1429920"/>
            <a:ext cx="8109000" cy="16146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dt" idx="10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 type="ftr" idx="11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 type="sldNum" idx="12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3BC7BF7-E2C0-4726-9880-57EE091A9C0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185" name="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187" name="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209582A6-6AD5-4751-90AA-0E995D4434A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2" name="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38" name="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65320" y="1146240"/>
            <a:ext cx="6656400" cy="2216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C4054894-3D7A-4977-AE43-15CFF4773CC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85640" y="198000"/>
            <a:ext cx="7880400" cy="646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8 ГОД И ПЛАНОВЫЙ ПЕРИОД 2019-2020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  </a:t>
            </a:r>
            <a:br>
              <a:rPr sz="10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(решение Думы Дальнереченского городского округа от 19.12.2017 № № 106</a:t>
            </a:r>
            <a:br>
              <a:rPr sz="1300"/>
            </a:br>
            <a:r>
              <a:rPr b="0" lang="ru-RU" sz="1300" spc="-1" strike="noStrike">
                <a:solidFill>
                  <a:srgbClr val="006666"/>
                </a:solidFill>
                <a:latin typeface="Times New Roman"/>
              </a:rPr>
              <a:t>"О  бюджете Дальнереченского городского округа на 2018 год и плановый период 2019-2020г.г.«)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701640" y="990720"/>
          <a:ext cx="7777080" cy="543384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4996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7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0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2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7,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1,4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6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4,3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6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8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36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6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3,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2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0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7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2,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5000" y="763560"/>
            <a:ext cx="795672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8 ГОД  </a:t>
            </a:r>
            <a:br>
              <a:rPr sz="1500"/>
            </a:br>
            <a:r>
              <a:rPr b="1" lang="en-US" sz="1500" spc="-1" strike="noStrike">
                <a:solidFill>
                  <a:srgbClr val="006666"/>
                </a:solidFill>
                <a:latin typeface="Arial"/>
              </a:rPr>
              <a:t>514,78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1165320" y="2368440"/>
          <a:ext cx="7076880" cy="373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5320" y="2368440"/>
                    <a:ext cx="707688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72920" y="414360"/>
            <a:ext cx="795636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на 2018 год – 328,95 млн.руб. (местный бюджет – 118,36 млн.руб., </a:t>
            </a:r>
            <a:br>
              <a:rPr sz="1400"/>
            </a:br>
            <a:r>
              <a:rPr b="1" lang="en-US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10,59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50,9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en-US" sz="1600" spc="-1" strike="noStrike">
                <a:solidFill>
                  <a:srgbClr val="006666"/>
                </a:solidFill>
                <a:latin typeface="Times New Roman"/>
              </a:rPr>
              <a:t>на 2018 год - 13,18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10,15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- 0,7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ФОРМИРОВАНИЕ СОВРЕМЕННОЙ ГОРОДСКОЙ СРЕДЫ ДАЛЬНЕРЕЧЕНСКОГО ГОРОДСКОГО ОКРУГА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0,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3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9,5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на 2018 год – 1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282680" y="1892160"/>
          <a:ext cx="7290000" cy="461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1892160"/>
                    <a:ext cx="729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228600" y="261720"/>
            <a:ext cx="7896240" cy="61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41440" y="990720"/>
          <a:ext cx="8151840" cy="568296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0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1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5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3,2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3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1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9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8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9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5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7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1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5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7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9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,9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37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8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2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,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41440" y="198000"/>
            <a:ext cx="8153280" cy="792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414360" y="990720"/>
          <a:ext cx="8567640" cy="59608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5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94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7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1,4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8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2,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6,2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2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3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5,0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5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4,9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31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9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4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7,7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86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5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3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3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8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1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1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8 ГОД (502,8 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1127160" y="1235160"/>
          <a:ext cx="7045200" cy="499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1235160"/>
                    <a:ext cx="7045200" cy="499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8 ГОДУ (281,29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457200" y="153828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3828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325440" y="1138320"/>
          <a:ext cx="4686120" cy="573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138320"/>
                    <a:ext cx="4686120" cy="573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"/>
          <p:cNvGraphicFramePr/>
          <p:nvPr/>
        </p:nvGraphicFramePr>
        <p:xfrm>
          <a:off x="5240160" y="1141560"/>
          <a:ext cx="3470400" cy="565596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6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8 ГОДУ (215,3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41440" y="270000"/>
            <a:ext cx="8191440" cy="7207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541440" y="1351080"/>
          <a:ext cx="8440560" cy="510048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492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8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4,5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0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6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7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4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0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4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9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0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7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07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9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14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7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09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8 ГОД (514,78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23:55:44Z</dcterms:modified>
  <cp:revision>140</cp:revision>
  <dc:subject/>
  <dc:title>Структура собственных доходов на 2016 год бюджета Дальнереченского городского округа</dc:title>
</cp:coreProperties>
</file>